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7E551-2772-409E-B694-AAB4E166C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C0D979-743C-45B0-A6F0-CB68EB737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845B42-4729-49B5-874B-A24342C27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78C5D3-1250-46D6-9410-7523DD981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1DA7F4-B7D2-4A04-B390-04A2011A8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B4E91-DE5F-4DB6-9266-C2BDB4042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77B68-27C7-47C5-8542-27D50EFB7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3A057E-A4BA-40DF-B8F1-2CF7BDE6D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2E340C-1236-4180-B17F-212263AFA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D4E07F-B136-4B42-94F7-EC7C0C1D8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5E1C29-F8C4-4043-BEB8-28EE03631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380005-E4B8-4389-9733-63FC283A1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1F40-78FE-42B0-BD46-E6DF580FC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D8F6-7734-494F-8D35-9D25B5AE7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8B92-C743-4CA6-AC66-A76122FF4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60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84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60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84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C876-6B4E-4B82-BD0C-0D5773459F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E5FD0-9862-4EF9-AE83-28E84DB97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E08F-64AE-4A3E-A723-81ECE6C89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0704-C96E-43D2-A4F5-1FE90855B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4EBD-2F6D-4C97-86AA-541B5FF6B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CA98-637B-4C02-9D96-105CBAE81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80CD-15DE-4ABD-BA86-CD63C38CD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D6843-40EC-4266-B0DE-01BEAFD57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E7C3-A002-4867-8F20-B13EC0519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160"/>
            <a:ext cx="684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410D90D6-291A-44D9-A833-A9F0384188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0515489A-4610-4FD7-9666-FAC2463D16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7010640" cy="39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2BD72C06-3107-438D-BB16-81AB83BDBC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1904760"/>
            <a:ext cx="82310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express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our c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’écrit en deux m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5181840" cy="8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4D49969A-8C95-47A8-BFD4-67043681D9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547560" y="1676520"/>
            <a:ext cx="804888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990720" y="1859040"/>
            <a:ext cx="735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657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nnez les équivalents en françai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00280" y="2743200"/>
          <a:ext cx="7812000" cy="3205080"/>
        </p:xfrm>
        <a:graphic>
          <a:graphicData uri="http://schemas.openxmlformats.org/drawingml/2006/table">
            <a:tbl>
              <a:tblPr/>
              <a:tblGrid>
                <a:gridCol w="3906720"/>
                <a:gridCol w="3905280"/>
              </a:tblGrid>
              <a:tr h="32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.000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20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65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2.000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.000.000 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80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.789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00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%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.250,50 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6"/>
          <p:cNvSpPr/>
          <p:nvPr/>
        </p:nvSpPr>
        <p:spPr>
          <a:xfrm>
            <a:off x="22860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Comic Sans MS"/>
              </a:rPr>
              <a:t>dix m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F001D37F-3612-46A9-A3AE-035AB758E4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174312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fr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nçais, on utilise un point à la place d’une virgule pour indiquer mille et mil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mo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prend pas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la fin lorsqu’il est suivi d’un nombre entr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600200" y="4105440"/>
            <a:ext cx="6019920" cy="107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759C92EC-F02B-4E93-95B5-1AFBD595FE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4360" y="1612800"/>
            <a:ext cx="807696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nombr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as utilisé avant le mo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d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/one thous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n revanche, il est utilisé devan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d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/one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irement à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invariable. Il ne prend jamais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la f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600200" y="5041800"/>
            <a:ext cx="5729400" cy="13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1523880" y="2908440"/>
            <a:ext cx="652140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D8B55804-E3B1-4647-BA2B-0CCDA18F52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1787400"/>
            <a:ext cx="8231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 un nom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suivis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e/d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641340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21EE6696-405C-42C6-8879-85EB91E70F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4360" y="1903320"/>
            <a:ext cx="8231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une année écrite en toutes lettres, le mo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accourci 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971800" y="3198960"/>
            <a:ext cx="320040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003B2CB1-19FF-4E87-A055-1EE6F9D079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1814400"/>
            <a:ext cx="8231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français, les années avant l’an 2000 peuvent être écrites de deux façons. Observez qu’en anglais, le m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und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ut être omis, mais qu’en français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nécess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371600" y="3338640"/>
            <a:ext cx="6400800" cy="11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5D3CAF0F-2285-47A1-A60B-A735E31C43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360" y="1788840"/>
            <a:ext cx="82310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pouvez exprimer les opérations mathématiques de deux manières, familières et form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371600" y="27795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76220922-4429-4CAE-A93E-4A62B6D823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1823760"/>
            <a:ext cx="82310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verb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éga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st au singulier alors qu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fai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au pluri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800280" y="2890800"/>
            <a:ext cx="75438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9CFA6521-D786-48DF-A89C-02FFA07B86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360" y="1904760"/>
            <a:ext cx="82310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français, la ponctuation décimale est inversée. Utilisez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une virgu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à la place d’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un p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1371600" y="3111480"/>
            <a:ext cx="6400800" cy="698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5:23:22Z</dcterms:created>
  <dc:creator>© 2011 Vista Higher Learning. All rights reserved.</dc:creator>
  <dc:description/>
  <cp:keywords/>
  <dc:language>en-US</dc:language>
  <cp:lastModifiedBy>Viviane Grebert</cp:lastModifiedBy>
  <dcterms:modified xsi:type="dcterms:W3CDTF">2011-09-13T21:32:30Z</dcterms:modified>
  <cp:revision>31</cp:revision>
  <dc:subject>Espaces: Rendez-vous avec le monde francophone, Second Edition</dc:subject>
  <dc:title>Unité 5: Les loisirs</dc:title>
</cp:coreProperties>
</file>